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CFA-0828-41E1-B5D9-216E2432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7A3-748B-4AAC-887B-2477C7A0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19B-7BA3-48DE-9493-31EB9EED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F80-81B5-46CB-A8AF-784D7E6B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988F-62A5-40B1-BE50-AAD4B3B3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F17F-59F4-44FC-8F1C-BC037C8D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587E-CD8B-42A3-A26B-CDF6C827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37AB-37C9-4820-8065-66B1600B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44A8-BF65-4A3B-BF05-8898F7F2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DDB0-FA42-400F-9A03-3698241B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1277-084A-4323-83B0-E53E7905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DE3-C82A-4520-82A7-98CC2AB7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5979-0959-40FD-8898-38452B2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DAD5-ED46-4461-B0DD-6355A98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3786-45EF-44DD-80F1-49EB44AF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4274-7735-47AA-9244-EBD17C18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31B9-5DE6-4EB7-B67E-E862BFCB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2F6-6303-4F1B-9D40-CA137606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E12-9FAD-43FA-BF3C-7E9EF0CC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E43-0D78-4147-A82F-4A063BDB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DF1-7B65-4787-8D83-8D1F2666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707-6678-48A2-8DEB-15D1C46F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951-B5B1-493F-AA18-3938B8B9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448-972B-460E-986A-4D4F96C2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14A8-CBA8-4A10-8463-7C290D5BAB1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0F0A-CC5D-4CF6-8B0D-47AF67C6A89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750960"/>
            <a:ext cx="800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eline of the European Un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 November: the Berlin Wall opens. East Germans can now travel to West Germany via Berl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 June: The Schengen Agreement is signed. This abolishes border checks between participating member states of the European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October: Germany is reuni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astricht Treaty on the European Union is signed (to enter into fforce on 1 November 1993). The basic component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mon foreign security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r cooperation on justice and home aff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of an economic and monetary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The Single Market i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Austria, Finland, and Sweden join the European Un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October: The Amsterdam Treaty is signed (to come into force 1 May 1999). This treaty gives the EU new powers and responsi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January: The Euro replaces the currencies of 11 EU countries (Austria, Belgium, Finland, France, Germany, Ireland, Italy, Luxembourg, the Netherlands, Portugal and Spain*). This single currency is first launched on the money marke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347920" indent="-295200" algn="r"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Greece eventually joins these Euro countri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6 February: To prepare the EU’s decision making system for enlargement, the Treaty of Nice is signed (to come into force 1 February 200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The Euro (bank notes and coins) comes into circulation in the Euro area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1 May: The 15 EU member states ratify the Kyoto Protocol, which calls for worldwide reduction of air pol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ay: Ten new states join the European Union: Cyprus, the Czech Republic, Estonia, Hungary, Latvia,, Lithuania, Malta, Poland, Slovakia, and Slov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46 - 19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needs to recover from the effects of WW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id from the United States, European countries begin post-war reconstr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s start about the possibility of cooperation between several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Romania and Bulgaria join the European Union, bringing the total number of member states to 27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uroz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1156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pril 18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ance, Belgium, the Netherlands, Luxembourg, Germany, and Italy (also known as The Six), sign the Treaty of Par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stablishes the European Coal and Steel Community (ECS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pose: to make decisions about the coal and steel industry in these count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President: Jean Monn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x” signs the Treaties of Rome – treaties that established the European Economic Community (ECC) and the European Atomic Energy Community (Eurat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: Now there are three European “communities”: the ECSC, the EEC, and Eurat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8: “The Six” signs the Merger Treaty in Bruss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eaty merges the executives of the three Communities (the ECSC, ECC, Euratom), giving them a Single Commission and  Single Counc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ed into force 1 July 19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is point in time on, this web site will refer to these three communities as the “European Community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Denmark, Ireland, and the United Kingdom join the European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crisis affects the European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March: The European Monetary System (EMS) enters into force. The EMS is based on a European currency unit, whose value is based on several national currencies, weighted according to the relative strength of each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-10 June: for the first time, the members of the European Parliament are selected by direct ele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Greece joins the European Co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933480"/>
            <a:ext cx="8001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anuary: Spain and Portugal join the European Co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&amp; 28 February: The Single European Act is signed (to come into force 1 July 1987). The SEA is a wide revision of the 1957 Treaties of Rome, and includes issues such as the single mar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3:21:22Z</dcterms:created>
  <dc:creator>KITTYLAM</dc:creator>
  <dc:description/>
  <dc:language>en-US</dc:language>
  <cp:lastModifiedBy>Saddleback  High</cp:lastModifiedBy>
  <cp:lastPrinted>2009-04-22T19:24:48Z</cp:lastPrinted>
  <dcterms:modified xsi:type="dcterms:W3CDTF">2008-05-08T15:11:40Z</dcterms:modified>
  <cp:revision>22</cp:revision>
  <dc:subject/>
  <dc:title>Timeline of the European Union</dc:title>
</cp:coreProperties>
</file>